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2F3-4A57-4492-9207-4582F186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6E7F-5710-4CE6-BACC-947A434B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8F9-7055-491B-98F7-3B7BCEE3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4537-4097-4000-A2AC-9AE05CFC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FF0-5984-4B2E-9BFF-AA8B432F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DC9-DCCF-4578-8E4B-FCA30777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0D0-007F-495C-BAE3-3984DD1C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54C-A6D6-4427-AF3B-2266C6DA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091-D319-4B61-AA0F-DCDF26CF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491-C064-40E3-8829-89091AC9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0AD-9A48-424C-98EC-1C4046A1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55A-F1CF-4DD4-B7B3-D06112DE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3729-4F6A-4199-91FF-EDED81C0B5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AE10-313B-45C7-AB6B-FED56178F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0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1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2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3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4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5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6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7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8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0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1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2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3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4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b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5A5-A674-4980-96A6-DE2BFDF5CE7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9C9-3FA6-4B36-861C-12645C40DF0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7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ACE-F790-41AA-B326-C606E72662E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86C-DA73-4604-AECB-984F766BBC3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6B7-BDF5-46B1-BE76-4A8E823C0ABB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 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A86-955B-4B48-A7D5-0E93792E773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E1B-050E-478D-BA84-F57565E69E1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 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245-DE76-4742-8FBD-EFCB92AD2761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3FF-E185-45CD-BD25-33B61CF3714A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5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ADA-47D5-4373-ADF8-C5881B9DB744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B3F-B467-43BB-831A-088CAC739E5A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5F7-52CF-42B1-A944-C3856BD3F36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8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-8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D9D-FD50-4D61-AF7E-37A3D37D9DE2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1EB-163D-40A5-A049-3484C57735A6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0219-39F3-4184-BE11-4EB0EFDDBA6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3: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B73C-E1FC-413C-8672-0070FB1E2D0A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5105160" cy="510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A24-FD76-4B5C-BAE0-8719811BBD03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:1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E3C-E4FC-4249-AFA3-87DA45BD06A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09680" y="609480"/>
            <a:ext cx="518184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6CF-9D1C-4F35-B528-0C14185E6C47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4: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17A-975C-4A07-9D3D-B8FA78C94283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16E-DFED-45C8-9E3F-2868D1D7C0F0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: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6F5-5800-4A8D-B965-72291F721F8F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15B-1BAE-45A1-B9AF-0AAE44119CA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057400" y="5335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F73-523F-494C-A0B6-DC2BBE52FCBF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160020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1:5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2D8-7D83-49B0-A29A-786620A1D798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76720" y="2666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59092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562720" y="3962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49568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3505320" y="3962520"/>
            <a:ext cx="761760" cy="76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7F9-8A23-4032-ACB2-7D166813E0AC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63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BDE-ACEA-43FA-A6C3-85D5EAFCF620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76720" y="2666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49568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505320" y="3962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495680" y="2952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251460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5486400" y="28954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172-DFE5-4B09-BC2F-C45987FFA847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47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A43-D2BE-4850-94AC-150228DDA10D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495680" y="2952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419720" y="39718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5410080" y="2952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3505320" y="28954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259092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2666880" y="29433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DE0-D092-4DF3-A9E5-DCF452115471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42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409-ABB5-448D-9B6D-CE4C19E341C4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985-3F99-4032-BB21-833C1546DE71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DB4-C148-4978-9544-612E48B4D79A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A70-454E-4960-8A3C-DE4D30254410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1295280"/>
            <a:ext cx="510516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2 Quar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3 Penn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8 Nick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7AA-7EE5-41EA-9ECF-1F56F8CCF15F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93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BA8-D1C1-4FCB-AC4C-19E93259BDAC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How much money do I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1523880"/>
            <a:ext cx="51051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12 Penn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1 Quar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5 Di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1 Nick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2F1-1C6A-4AFE-A19A-7375E2A06B79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1600200"/>
            <a:ext cx="5105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92 c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C9D-2691-4056-A366-43CB561113C7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33520"/>
            <a:ext cx="16765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143000"/>
            <a:ext cx="167652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+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133000">
            <a:off x="6778080" y="33145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10480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38080" y="34290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97108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420-DC8B-4A20-9A11-C8364E1FAB54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33520"/>
            <a:ext cx="16765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143000"/>
            <a:ext cx="167652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+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6708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5133000">
            <a:off x="6778080" y="33145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10480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38080" y="34290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97108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F87D-4432-40A2-AFA5-9C78711FA4B6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801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Jimmy buys 7 pencils from the school store. His mother gave him 12 more for his birthda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6579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1- How many pencils does Jimmy have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2- What is the un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3- Write the number model for t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6206-073B-45AF-8901-B5739AF060E9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8377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 Black"/>
              </a:rPr>
              <a:t>Answ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1- 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2- penc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3- 7+12=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BBA-4844-47FD-9438-4C52E12DAA9C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954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533520"/>
            <a:ext cx="16765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143000"/>
            <a:ext cx="167652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7220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72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5133000">
            <a:off x="6778080" y="33145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10480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838080" y="34290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97108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63B-8290-456E-85F8-B81CF26C05DA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533520"/>
            <a:ext cx="167652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1143000"/>
            <a:ext cx="1676520" cy="114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6232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7524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7080" y="41911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9907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5133000">
            <a:off x="6778080" y="33145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10480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838080" y="34290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971080" y="34290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164-FAF6-4702-B7B9-2B8A50575B3F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8E9-F225-4C2E-9AB5-64BB7F29E56B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990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Which numbers don’t belo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65760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666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#1)  15, 25, 35, 40, 55, 65, 105, 8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961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#2)  8, 10, 12, 16, 17, 18, 20, 22, 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3C90-09FA-4292-8BAF-09841ECFD86E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666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#1)  40, 1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961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#2)  16, 17, 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B5F-2C71-48E6-9350-AEFE90BB1F51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46360" y="19051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990720"/>
            <a:ext cx="1295640" cy="6332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600200"/>
            <a:ext cx="12956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+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13200" y="26668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51055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13200" y="51055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23080" y="26668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17960" y="2666880"/>
            <a:ext cx="137160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23080" y="51055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17960" y="510552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03760" y="1905120"/>
            <a:ext cx="1905120" cy="53316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5133000">
            <a:off x="7428960" y="42289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755680" y="43434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523880" y="434340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621960" y="434340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1066680"/>
            <a:ext cx="1177920" cy="335160"/>
          </a:xfrm>
          <a:custGeom>
            <a:avLst/>
            <a:gdLst>
              <a:gd name="textAreaLeft" fmla="*/ 205920 w 1177920"/>
              <a:gd name="textAreaRight" fmla="*/ 853920 w 1177920"/>
              <a:gd name="textAreaTop" fmla="*/ 44640 h 335160"/>
              <a:gd name="textAreaBottom" fmla="*/ 290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76520" y="990720"/>
            <a:ext cx="1295280" cy="6332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600200"/>
            <a:ext cx="12952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52480" y="1066680"/>
            <a:ext cx="1177920" cy="335160"/>
          </a:xfrm>
          <a:custGeom>
            <a:avLst/>
            <a:gdLst>
              <a:gd name="textAreaLeft" fmla="*/ 205920 w 1177920"/>
              <a:gd name="textAreaRight" fmla="*/ 853920 w 1177920"/>
              <a:gd name="textAreaTop" fmla="*/ 44640 h 335160"/>
              <a:gd name="textAreaBottom" fmla="*/ 290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0880" y="457200"/>
            <a:ext cx="259092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08B-117F-40EE-9B29-3419104222BC}" type="slidenum">
              <a:t>52</a:t>
            </a:fld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19954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firstslide"/>
          </p:cNvPr>
          <p:cNvSpPr/>
          <p:nvPr/>
        </p:nvSpPr>
        <p:spPr>
          <a:xfrm>
            <a:off x="-457200" y="499896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00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90720" y="1905120"/>
            <a:ext cx="6248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89160" y="731880"/>
            <a:ext cx="1905120" cy="53352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1494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93228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56000" y="393228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65880" y="1494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60760" y="1494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65880" y="393228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60760" y="393228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46560" y="731880"/>
            <a:ext cx="1905120" cy="53352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133000">
            <a:off x="6972120" y="3055680"/>
            <a:ext cx="2819160" cy="609480"/>
          </a:xfrm>
          <a:custGeom>
            <a:avLst/>
            <a:gdLst>
              <a:gd name="textAreaLeft" fmla="*/ 493200 w 2819160"/>
              <a:gd name="textAreaRight" fmla="*/ 2044080 w 28191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298480" y="317016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1066680" y="3170160"/>
            <a:ext cx="1981440" cy="53352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164760" y="3170160"/>
            <a:ext cx="1981080" cy="53352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050-9504-486D-8F86-C47A01307A57}" type="slidenum">
              <a:t>53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331-5692-4950-A6AC-F1619780446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2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D17-0287-438C-A7C1-ACECE4F173C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568520"/>
            <a:ext cx="41907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Arial Black"/>
              </a:rPr>
              <a:t>+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673-80F5-4108-84B9-09A82645FAD4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178000"/>
            <a:ext cx="4190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 Black"/>
              </a:rPr>
              <a:t>3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B4D-E0A3-4662-904F-B0034EA45CE6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Property of</cp:lastModifiedBy>
  <dcterms:modified xsi:type="dcterms:W3CDTF">2010-10-25T00:06:17Z</dcterms:modified>
  <cp:revision>35</cp:revision>
  <dc:subject/>
  <dc:title>Blank Jeopardy</dc:title>
</cp:coreProperties>
</file>